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B2E-5F0C-4610-A156-121580CA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133-DF74-43B3-AB55-C6F012F5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844-4090-40F1-B42E-2A1907F7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BC6-FE89-4051-9A4E-AB50F65C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8A7-82B4-4D72-8DD0-5A306ED1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CF8-40E7-44D0-BFCE-A5CCC2E4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897-5669-4578-AC56-01355A7B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B37-554F-4C6C-953F-A39877AF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CCA-7656-460C-88D7-BD62786B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056-8A6B-4DFB-8D0D-506407AD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491-ED0D-4425-9D77-E849D08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D9F-0A20-4B10-9A23-0F383CF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4D1-E3B7-4C2E-B698-1FE86AAA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.03a: Interpreting Linear Models from Scatter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:                  If there’s no “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equation of the line of best fit for the data?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correlation coefficien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average increase of tasks per hou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153640" cy="1757520"/>
        </p:xfrm>
        <a:graphic>
          <a:graphicData uri="http://schemas.openxmlformats.org/drawingml/2006/table">
            <a:tbl>
              <a:tblPr/>
              <a:tblGrid>
                <a:gridCol w="2438640"/>
                <a:gridCol w="761760"/>
                <a:gridCol w="838440"/>
                <a:gridCol w="838080"/>
                <a:gridCol w="838080"/>
                <a:gridCol w="762120"/>
                <a:gridCol w="762120"/>
                <a:gridCol w="914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Tasks Comple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linear model that represents Don’s grow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the slope repre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0200" y="0"/>
          <a:ext cx="5867280" cy="386712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’s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ight (inch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equation y = 461.19x + 3492 represents the value of a work of art from 1964 to 2005. What does the number 461.19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Knight recorded the typing speeds (in words per minute) of 25 students and their weeks of experience. The line of best fit for the data is y = 4.4x + 18.9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umber of weeks of experience of a student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udent’s typing speed. What is the meaning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tercept for this set of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9:22:16Z</dcterms:created>
  <dc:creator>Sharon Fieldman</dc:creator>
  <dc:description/>
  <dc:language>en-US</dc:language>
  <cp:lastModifiedBy>Sharon Fieldman</cp:lastModifiedBy>
  <dcterms:modified xsi:type="dcterms:W3CDTF">2010-12-10T19:14:54Z</dcterms:modified>
  <cp:revision>10</cp:revision>
  <dc:subject/>
  <dc:title>3.03a Interpreting Linear Models from Scatter Plots</dc:title>
</cp:coreProperties>
</file>